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70F-A3BE-4CF2-951C-ECDFEC40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4ED-671C-48DF-A02A-247B6F61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1D0-E2D9-4707-918B-0BD2EF85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7B5-04DC-4CA0-91DF-9ADA6050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BB4F-578D-463C-8A77-88D72481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8B9E-7C57-4269-8728-9870A170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E9A9-8FDF-4C83-A061-8F522A70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8ABD-B6E7-459B-8E03-CFA27362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BE6A-69B7-44D4-9A55-FE779CA8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7A56-6CDD-44BD-836D-F5A6DC7C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F3B0-810A-4F20-93BD-F55D8343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116-9C28-4BB0-97CE-9754D65F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D204-03AE-45AD-BB78-F7DAE5E8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58FB-6B72-41E7-97A5-C66093F4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01A4-8024-4442-BE40-B52FA065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8A17-F4A5-490E-93E4-925133AA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1F7D-7746-49C7-858A-44B5CB68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6FC-F322-45D2-8430-365193B4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BE6-2AA1-4E64-AD87-239C3469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D84-2B97-402C-AF4B-8B69F336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055-9337-441D-AAFF-05251FFD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239-E2EA-421B-A1A7-FA001A89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E7F-4306-4CA8-82F0-33F6BEF2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9DC-D98C-451F-A191-0F8CE571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1477800" cy="2125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80880" y="1219320"/>
            <a:ext cx="8761680" cy="457200"/>
          </a:xfrm>
          <a:prstGeom prst="rect">
            <a:avLst/>
          </a:prstGeom>
          <a:solidFill>
            <a:srgbClr val="00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70040" y="1523880"/>
            <a:ext cx="7472520" cy="0"/>
          </a:xfrm>
          <a:prstGeom prst="line">
            <a:avLst/>
          </a:prstGeom>
          <a:ln cap="sq"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72200"/>
            <a:ext cx="8763120" cy="15228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8240" indent="-498240">
              <a:spcBef>
                <a:spcPts val="799"/>
              </a:spcBef>
              <a:buClr>
                <a:srgbClr val="66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1" marL="893880" indent="-282960">
              <a:spcBef>
                <a:spcPts val="799"/>
              </a:spcBef>
              <a:buClr>
                <a:srgbClr val="6699ff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2" marL="1308960" indent="-30132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3" marL="1648440" indent="-226080">
              <a:spcBef>
                <a:spcPts val="799"/>
              </a:spcBef>
              <a:buClr>
                <a:srgbClr val="6699ff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4" marL="2148120" indent="-33768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5" marL="2148120" indent="-3376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6" marL="2148120" indent="-3376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-360" y="6402240"/>
            <a:ext cx="11430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98B8-8531-4F8F-B6ED-DA2587FBF2E4}" type="datetime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4038480" y="6402240"/>
            <a:ext cx="13716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7BD3-4D70-482E-A037-DA99277BDC10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5484960" y="6427800"/>
            <a:ext cx="1373040" cy="3031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">
            <a:hlinkClick r:id="" action="ppaction://hlinkshowjump?jump=nextslide"/>
          </p:cNvPr>
          <p:cNvSpPr/>
          <p:nvPr/>
        </p:nvSpPr>
        <p:spPr>
          <a:xfrm>
            <a:off x="7313760" y="6427800"/>
            <a:ext cx="1373040" cy="3031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1903320"/>
          <a:ext cx="318132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3320"/>
                    <a:ext cx="31813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371600" y="2133720"/>
            <a:ext cx="7770960" cy="457200"/>
          </a:xfrm>
          <a:prstGeom prst="rect">
            <a:avLst/>
          </a:prstGeom>
          <a:solidFill>
            <a:srgbClr val="00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2438280"/>
            <a:ext cx="6627960" cy="0"/>
          </a:xfrm>
          <a:prstGeom prst="line">
            <a:avLst/>
          </a:prstGeom>
          <a:ln cap="sq"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4114800"/>
            <a:ext cx="40388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6704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2004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5CDD-D955-4C32-80F6-F6FEC289B01E}" type="datetime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20004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5638680" y="6402240"/>
            <a:ext cx="15242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1028-3508-4B84-98CA-7161697E3983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7313760" y="6427800"/>
            <a:ext cx="1373040" cy="3031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1" marL="6174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lvl="2" marL="1017720" algn="ctr">
              <a:spcBef>
                <a:spcPts val="601"/>
              </a:spcBef>
              <a:buClr>
                <a:srgbClr val="6699ff"/>
              </a:buClr>
              <a:buSzPct val="80000"/>
              <a:buFont typeface="Wingdings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3" marL="1436760" algn="ctr">
              <a:spcBef>
                <a:spcPts val="499"/>
              </a:spcBef>
              <a:buClr>
                <a:srgbClr val="6699ff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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6704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ilities Ass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733920" y="2666880"/>
            <a:ext cx="54086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Who to call for help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and how to get it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3F26389-41E5-4CF7-B393-FE7E9842E2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b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Rearranging, Removing Cubical Furniture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: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Repair, Cleaning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892D5-FF6F-4967-ABAB-8F282C14D3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nds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Ground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prinkler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Parking Lot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ign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44733-7348-4298-9AA9-745AF6396E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Card Key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Visit bldg #, room ###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hours: 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Door Lock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Building Hour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##:## to ##:## m-f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##:## to ##:## sat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##:## to ##:## sun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91B6C-8573-4273-A50A-9D143EE21D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curity Service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name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curity Escort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Emergency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AA4B6-F299-488B-B26D-7BEEB9B7EE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rm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curity Alarm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moke Detector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prinkler System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58F79-CBCC-45EF-A542-11768FC2A5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Handcarts, Dollie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location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Hand Tool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location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29AFA-051B-4BF9-B4F4-114D67BDF4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Moving Furniture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Moving Office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New Building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83A23-0448-4AB2-811C-DE559B00AC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1981080" y="1828800"/>
            <a:ext cx="3200400" cy="4572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mergencie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1981080" y="2438280"/>
            <a:ext cx="3200400" cy="4572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1981080" y="3048120"/>
            <a:ext cx="3200400" cy="4572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1981080" y="3657600"/>
            <a:ext cx="3200400" cy="4572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Janitoria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1" name="">
            <a:hlinkClick r:id="rId5" action="ppaction://hlinksldjump"/>
          </p:cNvPr>
          <p:cNvSpPr/>
          <p:nvPr/>
        </p:nvSpPr>
        <p:spPr>
          <a:xfrm>
            <a:off x="1981080" y="4267080"/>
            <a:ext cx="3200400" cy="4572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nference Room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2" name="">
            <a:hlinkClick r:id="rId6" action="ppaction://hlinksldjump"/>
          </p:cNvPr>
          <p:cNvSpPr/>
          <p:nvPr/>
        </p:nvSpPr>
        <p:spPr>
          <a:xfrm>
            <a:off x="1981080" y="4876920"/>
            <a:ext cx="3200400" cy="4572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uilding Maintenance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5486400"/>
            <a:ext cx="3200400" cy="4572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urniture/Supplie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1828800"/>
            <a:ext cx="3200400" cy="4572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ubicle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2438280"/>
            <a:ext cx="3200400" cy="4572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Grounds Maintenance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048120"/>
            <a:ext cx="3200400" cy="4572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uilding Acces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3657600"/>
            <a:ext cx="3200400" cy="4572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4267080"/>
            <a:ext cx="3200400" cy="4572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arm System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4876920"/>
            <a:ext cx="3200400" cy="4572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486400"/>
            <a:ext cx="3200400" cy="4572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336699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ver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A98BF-292A-4C63-8D45-4CC8613757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erg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5182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Hospital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Name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5182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Ambulance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Name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5182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Fire Department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regular:  phone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emergency: 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5182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Police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regular: phone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emergency: 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C5478-4863-408E-B070-F9A325125C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66660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Electric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66660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Ga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66660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66660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Voice-Mail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66660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Water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66660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Water Main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hut-off location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66660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Gas Main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hut-off location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FB335-9772-446F-9040-0D250A1A68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Thermostat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et to ## for warmer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et to ## for cooler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: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Too Hot?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: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Too Cold?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: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8BE83-BEC7-4178-93D9-35896821F0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nitori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Refuse Disposal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Recycling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location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ick up date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Cleaning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regular date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Extra Container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DA19D-38F0-45ED-94F8-870D4350B9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 Ro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cheduling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Maintenance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Catering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Equipment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AE6A9-1A2B-4A6E-8D35-A14B687814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Paint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Repair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Bathroom Problem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Kitchen Problem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93D6B-504C-4284-90A1-8AFA7C5230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niture/Supp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Furniture Repair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New Furniture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O required</a:t>
            </a:r>
            <a:br>
              <a:rPr sz="3200"/>
            </a:b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upplies Catalog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703680" indent="0"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Order Supplies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2ECE9-ACD9-4673-86BC-BEF6CB328A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/>
  <dcterms:modified xsi:type="dcterms:W3CDTF">1997-10-11T01:55:06Z</dcterms:modified>
  <cp:revision>0</cp:revision>
  <dc:subject/>
  <dc:title>Facilities Assistance</dc:title>
</cp:coreProperties>
</file>